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5.wmf" ContentType="image/x-wmf"/>
  <Override PartName="/ppt/media/image24.jpeg" ContentType="image/jpeg"/>
  <Override PartName="/ppt/media/image22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33.wmf" ContentType="image/x-wmf"/>
  <Override PartName="/ppt/media/image29.jpeg" ContentType="image/jpeg"/>
  <Override PartName="/ppt/media/image31.wmf" ContentType="image/x-wmf"/>
  <Override PartName="/ppt/media/image19.jpeg" ContentType="image/jpeg"/>
  <Override PartName="/ppt/media/image32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3.wmf" ContentType="image/x-wmf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0993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94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91960" y="707760"/>
            <a:ext cx="4716360" cy="353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898DE87-C1C5-4CA2-A13D-D20E495F4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1E159BE-43AF-4547-8FBC-01E76E79C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9EADBC-441B-44C5-B615-2ABB12B71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C681C18-9935-44B8-AC98-DBC371AC9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5184F26-A082-40D9-AFAE-286C1F170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DC608736-4485-4350-81B6-29BD6AEE1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90FBB86-8E9D-4347-B218-11A4177B0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FE68423-6C8D-47BF-A284-3ECD39028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C2D1563-18AA-4C9A-8598-518DCFDF8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534F8A8-7758-4767-8B12-C5EBEE1EB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C47E5D7-8194-46CD-BE96-3BBD02DF6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58CB2A8-8511-4A77-BB5A-28BE25F41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48C9E7C-1A1A-4635-B623-ABD5A056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8BCE058-1416-4A1C-B26B-5AE1C2FC6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2B2111D-DC51-4CF0-BBA2-5AB208EDE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F93FE4B-8FC3-4393-B8F9-0C1D412966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063B716A-C275-4A6E-A907-615AB7568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A85835E-1A34-4E71-825C-9676BC9BE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E0A7584-49D2-41E9-9EEF-0E527D04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2C6840D-462B-4284-87DA-64A33410F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604BC278-960D-4962-A01A-A885E51A3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C691DEF-E2D1-467E-A0AC-651F554E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4CB76EF-89B8-46B8-96B3-FA4A3942F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2AA7B32-5DA2-4FF7-9675-30D36567B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74AAC51-4106-4FE5-8EAC-84E53F588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418D9E0-AF05-4B08-B891-5D9842F7A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C508AC3-8D1B-4BDE-99AD-5E2783D14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9034611-DC12-4892-9B30-922FEAD1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33D3CFC-E1FA-4C10-BA5D-4378ABE7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9BA75C4-FCB2-4981-9BFD-C428FC5F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1E90189-B7B4-4F48-8285-18E1F8DA9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6421099-FEDA-43D6-BB05-31913A2A0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4E422B46-A841-4DCC-A047-55EDA3EB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84A26EA1-06E9-4D6A-9A60-E4D5FF27D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7692C215-14B0-4A4C-ABFB-2290F63DF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A05AEFD9-6F65-4A47-8E61-650505657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B57C8A0-88A8-45A0-A3D1-F5CAAEC8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31FD3AB1-455B-4A03-B75A-A8528ACAF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3BE0B9F-28D9-4139-842E-8059D24C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351A447-EA84-4646-BFBC-84FED2384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6F455D6-80C2-40A0-B092-6D9BA562A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1A995F4-E466-4D02-8E73-B38DA057A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F7E1237F-4FE9-4FCC-9D03-252B3284C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031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2A140B23-9A07-4FB1-8259-E089A52F1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476BC66-6CE0-4E8F-9405-1BE0B6CC9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5712FAC2-0104-463A-A063-4AC80A8CC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792E338-457D-4969-8F61-89539FA54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EC32C987-97E4-437B-A75A-89FD38D1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BEC6A2C1-8942-4356-BD9C-EF9160946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2320" y="708120"/>
            <a:ext cx="4716360" cy="3537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46080" y="4481280"/>
            <a:ext cx="5207040" cy="42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022640" y="8962920"/>
            <a:ext cx="30765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C440EA8B-BA58-4217-ABFB-3EF51D9A0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56C-F13A-44DE-9D20-C81CDC41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0BC-FAC0-4FC2-8EE3-F78C4DC3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720-BCEC-4CC6-9B2C-1B7F1488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3AC-F6A9-48CE-830A-BFB8A733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1432-22E6-4BCA-AA99-5BE4A7B8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FBE6-4451-44BA-B03E-A5FB3CB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090-7790-4B23-921A-D7E141AC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05E6-CD7B-40F5-97F1-A8D3BD98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EEA0-DB13-41C4-BAE7-30918308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D1B8-E531-4002-8794-89B45E5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5F9C-1B87-4CFB-BBCA-F3D0F7B5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6E69-905A-41E1-BFA6-644AB7F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C763-3ED9-40AC-8DD8-031C3B3B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AC8F-34FC-4BC5-8B99-9BCA924C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C86C-A4A4-40D3-BFD3-1E5ABD57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50DD-222E-4234-ADDD-5D858767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0A22-714A-4152-8498-FFCA087F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15F-0201-46B8-B326-83765E6C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3B7F-71AE-4DB7-B929-F01C72EF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46C-BAA2-4DF5-9720-D156F1E0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C7B-8094-4ADA-9FEF-E2C3287D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DB1-90FD-46EA-A4DA-6A174FFF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AC6-0342-43CB-87D9-E45D8642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EF2-18A5-4FCA-B61F-A4FF67AC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8443-AF9C-453C-B895-249B51DF5B5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5C45-6159-49F6-B9AF-E596FB366CB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6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4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2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4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6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7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8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www.actionvideo.tv/images/Wall-Street.jpg&amp;imgrefurl=http://www.kipnotes.com/WallStreet1.htm&amp;h=188&amp;w=285&amp;prev=/images%3Fq%3Dwall%2Bstreet%26svnum%3D10%26hl%3Den%26lr%3D%26ie%3DUTF-8%26oe%3DUTF-8%26sa%3D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Financial Frauds                                                                              Case Stud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162560" cy="60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38080" y="2514600"/>
            <a:ext cx="8153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ZZZZ BEST CARPET 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600200" y="434340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ESM GOVERNMENT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lain Why He Needed So Much Money, Minkow Told Auditors And Lawyers That He Also Restored Buildings Damaged By Fires And Fl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Phony Customers To Show In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ver Debt Payments He Created Phony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Satisfied With Examining Copies Of Origin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toration Side Of Business Was 80% Of Earnings And Was Ph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ny Trick In The Book To Influence The Audi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ways Nice To The Aud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The Auditors Over For D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07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t To The Auditors Home For Dinner.  Wanted Spouses To Think That He Was Such A “Nice Bo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7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raged Competition Factor - Other CPA Firms Would Like To Have The ZZZZ Best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7" name="Picture 5" descr="j0199122[1]"/>
          <p:cNvPicPr/>
          <p:nvPr/>
        </p:nvPicPr>
        <p:blipFill>
          <a:blip r:embed="rId2"/>
          <a:stretch/>
        </p:blipFill>
        <p:spPr>
          <a:xfrm>
            <a:off x="762120" y="3733920"/>
            <a:ext cx="373356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4343400" y="3962520"/>
            <a:ext cx="4648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ed To Break Down Audit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5079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ipulation - Knew How To Make The Auditor Feel Impor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1" name="Picture 4" descr="BD20211_[1]"/>
          <p:cNvPicPr/>
          <p:nvPr/>
        </p:nvPicPr>
        <p:blipFill>
          <a:blip r:embed="rId2"/>
          <a:stretch/>
        </p:blipFill>
        <p:spPr>
          <a:xfrm>
            <a:off x="685800" y="2819520"/>
            <a:ext cx="3352680" cy="4038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962520" y="3133800"/>
            <a:ext cx="556236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3080" indent="-566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Me Your Business Adv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You Think Of This Contra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3080" indent="-5666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s Wrong With This Store/Location? Can You Help 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77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766520"/>
            <a:ext cx="5791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6238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was to understand what was going on at the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ank"/>
          <p:cNvPicPr/>
          <p:nvPr/>
        </p:nvPicPr>
        <p:blipFill>
          <a:blip r:embed="rId2"/>
          <a:stretch/>
        </p:blipFill>
        <p:spPr>
          <a:xfrm>
            <a:off x="6553080" y="1676520"/>
            <a:ext cx="225756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62120" y="3429000"/>
            <a:ext cx="579096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596960" indent="-682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rned 6 banks at the time the auditors wanted to do business with ZZZZ B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96960" indent="-6825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596960" indent="-682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failed to provide the necessary information to the audi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0195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s Able To Redirect The Auditors Foc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5" descr="j0221911[1]"/>
          <p:cNvPicPr/>
          <p:nvPr/>
        </p:nvPicPr>
        <p:blipFill>
          <a:blip r:embed="rId2"/>
          <a:stretch/>
        </p:blipFill>
        <p:spPr>
          <a:xfrm>
            <a:off x="6135840" y="1676520"/>
            <a:ext cx="3008160" cy="5029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2286000" y="3114720"/>
            <a:ext cx="5334120" cy="37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7760" indent="-52056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You Are Grinding Me And Hurting My Busi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, You Cannot Contact That Custo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3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y Do You Need Thi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lnSpc>
                <a:spcPct val="4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52056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ditor’s May Have Had A Fear Of Liti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3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5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7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2000" y="1766520"/>
            <a:ext cx="8082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04160" indent="-70416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Was Looking Real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04160" indent="-70416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o One Suspected Any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j0294949[1]"/>
          <p:cNvPicPr/>
          <p:nvPr/>
        </p:nvPicPr>
        <p:blipFill>
          <a:blip r:embed="rId3"/>
          <a:stretch/>
        </p:blipFill>
        <p:spPr>
          <a:xfrm>
            <a:off x="762120" y="365760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657600" y="3657600"/>
            <a:ext cx="5486400" cy="38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yers Were Making A Lot Of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ants Were Making A Lot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riters Were Making A Lot Of Mon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6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0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ck Price Went From 5 Cents To $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d Upon Wall Street Analysis.  They Know Due Diligence. They Know Numbers.  If There Was Something Wrong, The Analysis Would Have Found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77760" indent="-9777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he Media, Lawyers, Wall Street, Financial Analyst, And Stock Brokers To Influence The Accounting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6019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aud Perpetrators Had To Be Consistent And Tell The Same Story To The Aud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j0088890[1]"/>
          <p:cNvPicPr/>
          <p:nvPr/>
        </p:nvPicPr>
        <p:blipFill>
          <a:blip r:embed="rId2"/>
          <a:stretch/>
        </p:blipFill>
        <p:spPr>
          <a:xfrm>
            <a:off x="6705720" y="1828800"/>
            <a:ext cx="2438280" cy="2259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85800" y="4659480"/>
            <a:ext cx="8229600" cy="25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7365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nly Upper Management Was Involved In The Fra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>
              <a:lnSpc>
                <a:spcPct val="2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ower Level Employees Knew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14400" indent="-736560" algn="ctr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1295280" y="4419720"/>
            <a:ext cx="7620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769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raud May Have Been Detected Earlier  No One Asked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j0089814[1]"/>
          <p:cNvPicPr/>
          <p:nvPr/>
        </p:nvPicPr>
        <p:blipFill>
          <a:blip r:embed="rId2"/>
          <a:stretch/>
        </p:blipFill>
        <p:spPr>
          <a:xfrm>
            <a:off x="1066680" y="3733920"/>
            <a:ext cx="3276720" cy="24987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3962520" y="3089160"/>
            <a:ext cx="518148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320840" indent="-863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on Lic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yroll Reports For Hundred Of Employ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2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And State Per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lnSpc>
                <a:spcPct val="3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20840" indent="-8636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p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8305920" cy="13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These Three Companies Used Schemes That Had One Thing in Comm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44956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ised To Make The Business Look Better Than It W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HH02514_[1]"/>
          <p:cNvPicPr/>
          <p:nvPr/>
        </p:nvPicPr>
        <p:blipFill>
          <a:blip r:embed="rId2"/>
          <a:stretch/>
        </p:blipFill>
        <p:spPr>
          <a:xfrm>
            <a:off x="5257800" y="1600200"/>
            <a:ext cx="3728880" cy="50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287440"/>
            <a:ext cx="42670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cts That 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th Million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llars Were On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et Of Paper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pecif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msl"/>
          <p:cNvPicPr/>
          <p:nvPr/>
        </p:nvPicPr>
        <p:blipFill>
          <a:blip r:embed="rId1"/>
          <a:stretch/>
        </p:blipFill>
        <p:spPr>
          <a:xfrm>
            <a:off x="5483160" y="1676520"/>
            <a:ext cx="366084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766520"/>
            <a:ext cx="7764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raud Was Not Detected By The Audi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kow Overcharged Customer Credit Cards To Raise Mon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sewife Was Upset With Being Overcharged For Carpet Cleaning Services And Called A Local Newspaper Report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800280">
              <a:lnSpc>
                <a:spcPct val="80000"/>
              </a:lnSpc>
              <a:spcBef>
                <a:spcPts val="700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porter Discovered That There Were Hundreds Of People Who Had Be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char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PE01451_[1]"/>
          <p:cNvPicPr/>
          <p:nvPr/>
        </p:nvPicPr>
        <p:blipFill>
          <a:blip r:embed="rId1"/>
          <a:stretch/>
        </p:blipFill>
        <p:spPr>
          <a:xfrm>
            <a:off x="4114800" y="1828800"/>
            <a:ext cx="5219640" cy="43592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45720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Beyond The Numbers To See If The Document(s) Makes Se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BD05092_[1]"/>
          <p:cNvPicPr/>
          <p:nvPr/>
        </p:nvPicPr>
        <p:blipFill>
          <a:blip r:embed="rId3"/>
          <a:stretch/>
        </p:blipFill>
        <p:spPr>
          <a:xfrm>
            <a:off x="2286000" y="4952880"/>
            <a:ext cx="1825560" cy="16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4480" y="167616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 Tr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2 Months Sales Grew By 2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5 Months Total Assets Increased By Over 4,0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Assets As Compared To Total Assets Decr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storical Tre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985 There Were No Accounts Receiv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een Months Later, Accounts Receivables Was Approximately $2.5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s And Sales Were In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6858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Expenses De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ditors Should Look Closely At Companies That A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4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581280" y="3170160"/>
            <a:ext cx="640080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Levera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Lots Of L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s Few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Unbelievable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PE01458_[1]"/>
          <p:cNvPicPr/>
          <p:nvPr/>
        </p:nvPicPr>
        <p:blipFill>
          <a:blip r:embed="rId6"/>
          <a:stretch/>
        </p:blipFill>
        <p:spPr>
          <a:xfrm>
            <a:off x="685800" y="4452840"/>
            <a:ext cx="5943600" cy="240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34304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ustry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0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-6224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ZZZ Best Showed A $7 Million Restoration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57480" indent="-622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Job In The Industry Was Only $2.4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5" name="Picture 5" descr="construction"/>
          <p:cNvPicPr/>
          <p:nvPr/>
        </p:nvPicPr>
        <p:blipFill>
          <a:blip r:embed="rId4"/>
          <a:stretch/>
        </p:blipFill>
        <p:spPr>
          <a:xfrm>
            <a:off x="914400" y="1600200"/>
            <a:ext cx="3309840" cy="525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s Were Don Sheland And Vince Goldland, C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d Big Plans To Increase Sales And Diversify The Produ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es Fell Short Of Pred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Tell Shareholders Of Shortfall  Sheland Turned To His CFO For Some Creative Accoun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4" descr="HH01539_[1]"/>
          <p:cNvPicPr/>
          <p:nvPr/>
        </p:nvPicPr>
        <p:blipFill>
          <a:blip r:embed="rId5"/>
          <a:stretch/>
        </p:blipFill>
        <p:spPr>
          <a:xfrm>
            <a:off x="8116920" y="533520"/>
            <a:ext cx="1027080" cy="128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240" y="434520"/>
            <a:ext cx="8077320" cy="1165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0" name="Picture 4" descr="HH01539_[1]"/>
          <p:cNvPicPr/>
          <p:nvPr/>
        </p:nvPicPr>
        <p:blipFill>
          <a:blip r:embed="rId1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374840" y="5257800"/>
            <a:ext cx="776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2057400" indent="-571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layed Posting Of Sales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143000" y="2438280"/>
            <a:ext cx="776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874440" indent="-4856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ture Revenue Recognition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143000" y="58672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28880" indent="-5716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ed To Post Certain Expenses At Year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374840" y="3886200"/>
            <a:ext cx="7769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2057400" indent="-571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dition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74840" y="4572000"/>
            <a:ext cx="7769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lvl="2" marL="1604520" indent="-4453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ll And Hold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295280" y="2895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lvl="2" marL="1522440" indent="-42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lding The Books Open Past The Close Of The Accounting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533520" y="1828800"/>
            <a:ext cx="7769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811800" indent="-596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nancial Statement Frau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66520"/>
            <a:ext cx="814536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d Metal Parts With Plastic Parts Because The Plastic Parts Were Che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stic Melted, The Vacuums Broke, And The Customers Returned The 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8" descr="parts"/>
          <p:cNvPicPr/>
          <p:nvPr/>
        </p:nvPicPr>
        <p:blipFill>
          <a:blip r:embed="rId3"/>
          <a:stretch/>
        </p:blipFill>
        <p:spPr>
          <a:xfrm>
            <a:off x="685800" y="4876920"/>
            <a:ext cx="845820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HH01539_[1]"/>
          <p:cNvPicPr/>
          <p:nvPr/>
        </p:nvPicPr>
        <p:blipFill>
          <a:blip r:embed="rId4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ight Basis Schemes Used to Cook the Boo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stating Reven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mature Revenue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er Treatmen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nue Substance Over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centage Of Completion 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j0199279[1]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766880"/>
            <a:ext cx="8458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8002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petrated Frau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ccounting For Returned Goods From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False Invoices (Created False Account Receivab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34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685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ed To Report All Of The Exp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4" name="Picture 5" descr="HH01539_[1]"/>
          <p:cNvPicPr/>
          <p:nvPr/>
        </p:nvPicPr>
        <p:blipFill>
          <a:blip r:embed="rId5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581280" y="3123720"/>
            <a:ext cx="556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3000" indent="-57132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1 Product To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80000"/>
              </a:lnSpc>
              <a:buNone/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71320">
              <a:lnSpc>
                <a:spcPct val="80000"/>
              </a:lnSpc>
              <a:buSzPct val="102805"/>
              <a:buBlip>
                <a:blip r:embed="rId2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fied The Product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0">
              <a:lnSpc>
                <a:spcPct val="80000"/>
              </a:lnSpc>
              <a:buNone/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571320">
              <a:lnSpc>
                <a:spcPct val="80000"/>
              </a:lnSpc>
              <a:buSzPct val="102805"/>
              <a:buBlip>
                <a:blip r:embed="rId3"/>
              </a:buBlip>
              <a:tabLst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d Almost Everything That Had Been Previously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vacuum"/>
          <p:cNvPicPr/>
          <p:nvPr/>
        </p:nvPicPr>
        <p:blipFill>
          <a:blip r:embed="rId4"/>
          <a:stretch/>
        </p:blipFill>
        <p:spPr>
          <a:xfrm>
            <a:off x="685800" y="3429000"/>
            <a:ext cx="3657600" cy="30970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371600" y="1676520"/>
            <a:ext cx="7467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eland Tookover Regina The Company Became A 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5040" indent="-635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vation Of C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ed All Of His Life Savings To Acquire A Controlling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Jealous Of His Successful S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6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ed To Be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892160" indent="-68580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Life Was Tied To The Company And The Stock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j0310160[1]"/>
          <p:cNvPicPr/>
          <p:nvPr/>
        </p:nvPicPr>
        <p:blipFill>
          <a:blip r:embed="rId7"/>
          <a:stretch/>
        </p:blipFill>
        <p:spPr>
          <a:xfrm>
            <a:off x="1066680" y="2971800"/>
            <a:ext cx="2425680" cy="291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66880"/>
            <a:ext cx="503424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Did Not Detect What Was Going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Collusion With Several Key Employ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land And Goldland Turned Themselves Into The Author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78600" indent="-67860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ssed Because They Had A Guilty Cons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j0185047[1]"/>
          <p:cNvPicPr/>
          <p:nvPr/>
        </p:nvPicPr>
        <p:blipFill>
          <a:blip r:embed="rId5"/>
          <a:stretch/>
        </p:blipFill>
        <p:spPr>
          <a:xfrm>
            <a:off x="5943600" y="1676520"/>
            <a:ext cx="3200400" cy="5181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Financial Trends Over A 3 Year Perio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unt Receivables Increased From 33% To 43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Assets As A Percentage Of Total Assets Decre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ies Increased From 22% To 3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697400" indent="-615960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Percentage Of Net Sales, Cost Of Goods Sold Decreased From 61% To 5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ical Financial Trends Over A 3 Year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y Sales And Inventory Went From 76 Days To 113 D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able Turnover Decreased From 5.3 To 3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ory Turnover Decreased From 4.8 To 3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71600" indent="-507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571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Sales Increased 110% Without A Corresponding Increase In The Cost Of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HH01539_[1]"/>
          <p:cNvPicPr/>
          <p:nvPr/>
        </p:nvPicPr>
        <p:blipFill>
          <a:blip r:embed="rId6"/>
          <a:stretch/>
        </p:blipFill>
        <p:spPr>
          <a:xfrm>
            <a:off x="8175600" y="533520"/>
            <a:ext cx="968400" cy="121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6629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1320" indent="-571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ll And Hold Schemes Used To Falsify Sales Were Concentrated In A Few Custo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4" descr="j0160458[1]"/>
          <p:cNvPicPr/>
          <p:nvPr/>
        </p:nvPicPr>
        <p:blipFill>
          <a:blip r:embed="rId2"/>
          <a:stretch/>
        </p:blipFill>
        <p:spPr>
          <a:xfrm>
            <a:off x="7391520" y="1905120"/>
            <a:ext cx="1600200" cy="158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BD20191_[1]"/>
          <p:cNvPicPr/>
          <p:nvPr/>
        </p:nvPicPr>
        <p:blipFill>
          <a:blip r:embed="rId3"/>
          <a:stretch/>
        </p:blipFill>
        <p:spPr>
          <a:xfrm>
            <a:off x="762120" y="4495680"/>
            <a:ext cx="1904760" cy="1712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2666880" y="4495680"/>
            <a:ext cx="6172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617040" indent="-6170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erous Large Journal Entries Were Made At Year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400" y="53341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Receivables Created A Few Days Before The Year End Should Trigger Further Inves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gina Vacuum Cleaner Co.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3429000" y="2209680"/>
            <a:ext cx="5715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xcessive Account Receivables Are Concentrated In A Few Accounts - The Accountant Should Be Suspi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5" descr="j0160382[1]"/>
          <p:cNvPicPr/>
          <p:nvPr/>
        </p:nvPicPr>
        <p:blipFill>
          <a:blip r:embed="rId3"/>
          <a:stretch/>
        </p:blipFill>
        <p:spPr>
          <a:xfrm>
            <a:off x="1219320" y="1752480"/>
            <a:ext cx="2070000" cy="3276720"/>
          </a:xfrm>
          <a:prstGeom prst="rect">
            <a:avLst/>
          </a:prstGeom>
          <a:ln w="0">
            <a:noFill/>
          </a:ln>
        </p:spPr>
      </p:pic>
      <p:sp>
        <p:nvSpPr>
          <p:cNvPr id="221" name="Line 7"/>
          <p:cNvSpPr/>
          <p:nvPr/>
        </p:nvSpPr>
        <p:spPr>
          <a:xfrm>
            <a:off x="182880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657600" y="4952880"/>
            <a:ext cx="5181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56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siness Of Buying And Selling Government Secur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ntered Financial Difficu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In 1975 - Capital Was Mi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On The Company Had A Deficit In Stockholders Equity Of $68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28880" indent="-80028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8, A $3 Million Dollar Trade Was Made That Resulted In A Major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0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7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0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53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 Revealed That ESM Principals Had Used Customer Securities Held In Safekeeping To Cover Massive Losses Caused By Poor Trading And High Li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Out As A Bad Business Deal And Ended With Losses Of $34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HH01619_[1]"/>
          <p:cNvPicPr/>
          <p:nvPr/>
        </p:nvPicPr>
        <p:blipFill>
          <a:blip r:embed="rId3"/>
          <a:stretch/>
        </p:blipFill>
        <p:spPr>
          <a:xfrm>
            <a:off x="6072120" y="1752480"/>
            <a:ext cx="3071880" cy="510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rral Of Cost And Expe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per Asset 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Party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d69b8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dequate Disclos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ight Basis Schemes Used to Cook the Boo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7" name="Picture 4" descr="j0199279[1]"/>
          <p:cNvPicPr/>
          <p:nvPr/>
        </p:nvPicPr>
        <p:blipFill>
          <a:blip r:embed="rId2"/>
          <a:stretch/>
        </p:blipFill>
        <p:spPr>
          <a:xfrm>
            <a:off x="6705720" y="1828800"/>
            <a:ext cx="2514600" cy="2185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1760" y="1766880"/>
            <a:ext cx="5033880" cy="18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her Than Admit The Problem, ESM Principals Decided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663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PE01476_[1]"/>
          <p:cNvPicPr/>
          <p:nvPr/>
        </p:nvPicPr>
        <p:blipFill>
          <a:blip r:embed="rId2"/>
          <a:stretch/>
        </p:blipFill>
        <p:spPr>
          <a:xfrm>
            <a:off x="6051600" y="1828800"/>
            <a:ext cx="3092400" cy="34686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1295280" y="4343400"/>
            <a:ext cx="8982360" cy="22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504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 The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Out Of The Probl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50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st An Additional $70-$80 Mill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51120">
              <a:lnSpc>
                <a:spcPct val="7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074240" y="1828800"/>
            <a:ext cx="80694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, ESM Partner, Losses Covered Up By Transferring Losses To A Shel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7 Years Of Cooking The Books, Novack Died Suddenly Of A Heart Attack ESM’s Chairman Decided To Call It Q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63640" indent="-863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Players Contacted Their Attorn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766880"/>
            <a:ext cx="808200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ncial Statements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188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ies Purchased Under Agreement To Resell $2.9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bilit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171880" indent="-279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ies Sold Under Agreements To Repurchase $3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14680" indent="-45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ing Of The Liability Side And Lending On The Asse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BS00512_[1]"/>
          <p:cNvPicPr/>
          <p:nvPr/>
        </p:nvPicPr>
        <p:blipFill>
          <a:blip r:embed="rId5"/>
          <a:stretch/>
        </p:blipFill>
        <p:spPr>
          <a:xfrm>
            <a:off x="5867280" y="1676520"/>
            <a:ext cx="2374920" cy="112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7627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M Convinced Many Lenders To Let ESM Hold Their Collat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9" descr="j0245173"/>
          <p:cNvPicPr/>
          <p:nvPr/>
        </p:nvPicPr>
        <p:blipFill>
          <a:blip r:embed="rId2"/>
          <a:stretch/>
        </p:blipFill>
        <p:spPr>
          <a:xfrm>
            <a:off x="5715000" y="3505320"/>
            <a:ext cx="3429000" cy="3109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0"/>
          <p:cNvSpPr/>
          <p:nvPr/>
        </p:nvSpPr>
        <p:spPr>
          <a:xfrm>
            <a:off x="762120" y="2895480"/>
            <a:ext cx="49528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/Securities Would Come In  Fraudulent Letter Would Be Sent Stating That The Securities Have Been Segre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Sold Over And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77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3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5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7" dur="77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76652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es Covered Up By Simple Accounting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M Group Incorporated Was Aud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iliate ESM Financial Corporation Wa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76160" indent="-77616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 Simply Transferred The Losses Of ESM Group Incorporated To Its Affil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80000"/>
              </a:lnSpc>
              <a:spcBef>
                <a:spcPts val="11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m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7" descr="PE03267_[1]"/>
          <p:cNvPicPr/>
          <p:nvPr/>
        </p:nvPicPr>
        <p:blipFill>
          <a:blip r:embed="rId2"/>
          <a:stretch/>
        </p:blipFill>
        <p:spPr>
          <a:xfrm>
            <a:off x="6019920" y="1811160"/>
            <a:ext cx="3124080" cy="275616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8"/>
          <p:cNvSpPr/>
          <p:nvPr/>
        </p:nvSpPr>
        <p:spPr>
          <a:xfrm>
            <a:off x="152280" y="4510080"/>
            <a:ext cx="89917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6224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he Same Named Securities And Treated  Them As If He Was Selling Securities To An Affiliated Company With An Agreement To Repurchase/Resell To Cover The Short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533520" y="3124080"/>
            <a:ext cx="60195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57132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ed More Than Loa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581280" y="3733920"/>
            <a:ext cx="55627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Financial Statements Showed Pro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me Accounting Firm Had Prepared The Tax Return And Conducted The Au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50" name="Picture 5" descr="PE01456_[1]"/>
          <p:cNvPicPr/>
          <p:nvPr/>
        </p:nvPicPr>
        <p:blipFill>
          <a:blip r:embed="rId3"/>
          <a:stretch/>
        </p:blipFill>
        <p:spPr>
          <a:xfrm>
            <a:off x="762120" y="4165560"/>
            <a:ext cx="2908080" cy="26924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7"/>
          <p:cNvSpPr/>
          <p:nvPr/>
        </p:nvSpPr>
        <p:spPr>
          <a:xfrm>
            <a:off x="838080" y="1828800"/>
            <a:ext cx="822960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ors Asked For The Books And Records Of E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Its Affil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Tax Returns For The Companies Showed M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es (E.G., $90 Million In One Year In Trading Los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3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-152280"/>
            <a:ext cx="77724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 - Audit Partner in Charge - Jose Gome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4952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d Above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BS00882_[1]"/>
          <p:cNvPicPr/>
          <p:nvPr/>
        </p:nvPicPr>
        <p:blipFill>
          <a:blip r:embed="rId2"/>
          <a:stretch/>
        </p:blipFill>
        <p:spPr>
          <a:xfrm>
            <a:off x="1295280" y="4611600"/>
            <a:ext cx="2514600" cy="2246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BD09172_[1]"/>
          <p:cNvPicPr/>
          <p:nvPr/>
        </p:nvPicPr>
        <p:blipFill>
          <a:blip r:embed="rId3"/>
          <a:stretch/>
        </p:blipFill>
        <p:spPr>
          <a:xfrm>
            <a:off x="5486400" y="1676520"/>
            <a:ext cx="3657600" cy="24811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12"/>
          <p:cNvSpPr/>
          <p:nvPr/>
        </p:nvSpPr>
        <p:spPr>
          <a:xfrm>
            <a:off x="4114800" y="4648320"/>
            <a:ext cx="518148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Up Credit Card Charges Of $15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4114800" y="5826240"/>
            <a:ext cx="502920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Novack Offered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ditors Missed The Cover Up In The First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Cover Up Became Known To Gomez In The Second Year, Novack Confronted Gomez Saying “Do You Want To Tell Your Partners That You Blew This Audi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9160" indent="-7491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mez Covered Up The Fraud And Was Sentenced To 12 Years In Federal P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990720" y="129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ESM Group Incorporated – Audi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Partner in Charge - Jose Gome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0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j0092503[1]"/>
          <p:cNvPicPr/>
          <p:nvPr/>
        </p:nvPicPr>
        <p:blipFill>
          <a:blip r:embed="rId1"/>
          <a:stretch/>
        </p:blipFill>
        <p:spPr>
          <a:xfrm>
            <a:off x="1143000" y="1981080"/>
            <a:ext cx="7761240" cy="381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0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766880"/>
            <a:ext cx="838188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By Barry Minkow In 1982 At The Age Of 16 In His Ga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Years Later, ZZZZ Best Was Worth Over $240 Million Do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 algn="ctr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-406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 Stock On Wall 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6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1" descr="Wall-Stree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4952880"/>
            <a:ext cx="8381880" cy="182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3055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y Never Made A Legitimate Prof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Time This Was One Of The Largest Financial Frauds Of The 20th 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3" name="Picture 9" descr="BD19755_[1]"/>
          <p:cNvPicPr/>
          <p:nvPr/>
        </p:nvPicPr>
        <p:blipFill>
          <a:blip r:embed="rId3"/>
          <a:stretch/>
        </p:blipFill>
        <p:spPr>
          <a:xfrm>
            <a:off x="5637240" y="4406760"/>
            <a:ext cx="3506760" cy="24512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6"/>
          <p:cNvSpPr/>
          <p:nvPr/>
        </p:nvSpPr>
        <p:spPr>
          <a:xfrm>
            <a:off x="685800" y="4343400"/>
            <a:ext cx="464832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5713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kow Sentenced To 25 Years In Prison For Defrauding Investors Over $100 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571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 - Restoration Frau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pet Furniture And Drapery Cleaning Business Was Legitim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ed A Lot Of Money To A Lot Of People And The Company Was Heavy In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rrowed To Expand - Eventually Could Not Get Bank Lo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Had High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 - Restoration Frau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9297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ud - Choose To Show That The Company Was Making More Money That It Really Was And Always Needed To Borrow Mor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A Built In Excuse “Why Are You Always Short Of Money?  I Have Got These Restoration Job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ed To Fool The Accountants And Auditors Into Believing That ZZZZ Best Financials Were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64764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ZZZZ Be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76652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ny In Red Since 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Phony Financial To Borrow As Much Money As He Could From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His Credit Ran Out The Only Thing That Would Save The Company Was To Take The Company Public In A Stock Off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1:36:04Z</dcterms:created>
  <dc:creator>Mann Frankfort Stein &amp; Lipp</dc:creator>
  <dc:description/>
  <dc:language>en-US</dc:language>
  <cp:lastModifiedBy>Paul Lechner</cp:lastModifiedBy>
  <cp:lastPrinted>2002-12-05T20:57:54Z</cp:lastPrinted>
  <dcterms:modified xsi:type="dcterms:W3CDTF">2018-11-17T11:16:25Z</dcterms:modified>
  <cp:revision>112</cp:revision>
  <dc:subject/>
  <dc:title>Fraud - Past, Present &amp; Future</dc:title>
</cp:coreProperties>
</file>